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51DD-4795-4561-84BC-34930303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662A-7F44-4DD7-BC9A-989E0451A84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5413-218B-46B9-ADF6-BD8A2B6A9E3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A57C-9C5D-460D-829B-E6B8FC2D146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03C8-7F18-4C93-BA94-EEB3C71A13C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A998-2837-444B-88E1-02079A2B388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BAA9-2C8E-4485-B063-B367BC6EB8D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8C50-F864-4B5F-AD34-D5DD959C573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E677-F78F-42F0-860A-F23A00810A9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69E3-9938-494F-8A03-B8575F74AF3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CBC2-3C32-4AF1-A376-5ACAC77896EB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9C81-67E3-4A0F-AE77-E02F15D1776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130F-8617-4AA2-8425-924A3C6CFE6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8AD5-F8BA-4B22-88DB-0A0BF3FCD88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09CD-D61D-4999-B590-201C68D0E23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25B4-C2E2-48A7-8C39-682D613D156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3E17-1BBF-4CB3-B3B1-E056F0C7E4A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DA12-8006-4243-94D7-8D4538326C4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26E4-BFD6-41A4-8D51-016109E9BC8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32F6-8445-4579-9ADA-1FC404495D9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54D6-59B6-4349-A6E7-7B565AF0DDBB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C3BE-6188-46F2-92D6-11070BC7B1D8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F75E-55AA-4BE9-A0CC-A0C3F4C5507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C7E2-D808-490A-BE81-38B7FDEDFEE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1EF9-2816-451E-972E-23A038E0A8FC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6BE8-AEBE-4799-A8FB-88C1F465A2C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5267-838B-4278-B3C4-4F95E7276B4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39CB-9209-43F8-8D05-906F25C291F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AC27-F10A-4589-82E5-C1302F4085C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2408-46FB-4D63-B475-E83252DBE48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3C0E-28FB-4232-9310-3C4F84C02D42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7369-518F-44EE-BC21-096356628E4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F59F-268F-45A2-A15C-EED13798045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6408-5445-4E0F-95CF-279A028ED478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76FC-B4E3-4577-9972-9B87C614C40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D3E2-D4C6-4EF1-B6BC-0150B6C6AED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AE11-F690-4B32-BB88-F7FA4F25BFA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D487-CD4D-4DBA-8C3A-F33907E31BB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9D4A-62D0-47CC-B116-5E3CD524DA2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6426-742D-4A37-8388-86E2AD6EFCC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87A1-F141-4708-9FA4-A0819CFB882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AE9C-237C-444D-9C1B-084B2DB32AD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5E22-60AB-4470-A1A5-710FC2051C6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7ED2-731C-446C-B8C2-9CB91C8A7A2B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ABC8-7A1A-435C-BE40-1F83BBB85E5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4C23-76D9-4450-84A1-907A04303B5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2082-AFA0-4A72-9C07-961EA5A05198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1D19-E565-4DC7-9B97-F621AE9DB91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39B6-7B51-42ED-AB4B-7456AB3DE1D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3591-E86D-4EC7-96CA-0F4157611D2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349-2F39-4A02-83A3-0089C6B5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B15-6DDB-4FDA-A052-C418117A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197-39C5-4513-9D1F-4A43C164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C70-00DB-4B3B-BB6A-899212E6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C7D3-A998-46A2-93D3-AB9AAF16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2B6-7F08-4650-96FA-726DAFE9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94F-6793-4603-9317-11C27648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1EC-893C-4B65-8763-284CB295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D9A-5EA4-439F-BA01-DC05EB23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B15-BC54-4D29-A536-2E4C6D69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F59-04AE-42C9-8499-44BFB554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994-4528-432C-8C2D-0A62344D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7A6A-AEC3-4473-99D8-5CD1B4A3E3ED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Properties of Real  Numbers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Algebr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914400" y="2743200"/>
          <a:ext cx="7391520" cy="14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743200"/>
                    <a:ext cx="739152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357200" y="3124080"/>
          <a:ext cx="665820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124080"/>
                    <a:ext cx="665820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609480" y="2666880"/>
          <a:ext cx="811368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66880"/>
                    <a:ext cx="811368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1752480" y="3048120"/>
          <a:ext cx="5578560" cy="14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57856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380880" y="2895480"/>
          <a:ext cx="8458200" cy="13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4582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990720" y="2590920"/>
          <a:ext cx="738504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385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932200" y="3282840"/>
          <a:ext cx="321948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2200" y="3282840"/>
                    <a:ext cx="32194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Reflexive 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1143000" y="2743200"/>
          <a:ext cx="7023240" cy="14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43200"/>
                    <a:ext cx="702324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2222640" y="2666880"/>
          <a:ext cx="488628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2666880"/>
                    <a:ext cx="488628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2027160" y="3282840"/>
          <a:ext cx="502920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3282840"/>
                    <a:ext cx="5029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393840" y="2614680"/>
          <a:ext cx="84610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614680"/>
                    <a:ext cx="84610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Transitiv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2655720" y="2417760"/>
          <a:ext cx="377064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5720" y="2417760"/>
                    <a:ext cx="377064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1357200" y="3124080"/>
          <a:ext cx="665820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124080"/>
                    <a:ext cx="665820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1531800" y="2943360"/>
          <a:ext cx="6269040" cy="110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2943360"/>
                    <a:ext cx="626904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26" name="Object 4"/>
          <p:cNvGraphicFramePr/>
          <p:nvPr/>
        </p:nvGraphicFramePr>
        <p:xfrm>
          <a:off x="2970360" y="3282840"/>
          <a:ext cx="314136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360" y="3282840"/>
                    <a:ext cx="314136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Reflexive 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533520" y="3124080"/>
          <a:ext cx="830556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24080"/>
                    <a:ext cx="830556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457200" y="3200400"/>
          <a:ext cx="833292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833292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587520" y="3200400"/>
          <a:ext cx="807228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3200400"/>
                    <a:ext cx="80722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Symmetric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1727280" y="3135240"/>
          <a:ext cx="579276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7280" y="3135240"/>
                    <a:ext cx="57927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Distribu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2538360" y="2417760"/>
          <a:ext cx="400680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8360" y="2417760"/>
                    <a:ext cx="400680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76" name="Object 4"/>
          <p:cNvGraphicFramePr/>
          <p:nvPr/>
        </p:nvGraphicFramePr>
        <p:xfrm>
          <a:off x="425520" y="2614680"/>
          <a:ext cx="8396280" cy="22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2614680"/>
                    <a:ext cx="83962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Transitiv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86" name="Object 4"/>
          <p:cNvGraphicFramePr/>
          <p:nvPr/>
        </p:nvGraphicFramePr>
        <p:xfrm>
          <a:off x="1076400" y="3135240"/>
          <a:ext cx="709452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3135240"/>
                    <a:ext cx="709452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Distribu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Symmetric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2130480" y="2666880"/>
          <a:ext cx="507060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0480" y="2666880"/>
                    <a:ext cx="50706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86" name="Object 4"/>
          <p:cNvGraphicFramePr/>
          <p:nvPr/>
        </p:nvGraphicFramePr>
        <p:xfrm>
          <a:off x="2084400" y="2943360"/>
          <a:ext cx="5162400" cy="110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2943360"/>
                    <a:ext cx="516240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3:09:32Z</dcterms:created>
  <dc:creator>Parkland High School</dc:creator>
  <dc:description/>
  <dc:language>en-US</dc:language>
  <cp:lastModifiedBy>test</cp:lastModifiedBy>
  <dcterms:modified xsi:type="dcterms:W3CDTF">2014-09-08T11:41:04Z</dcterms:modified>
  <cp:revision>6</cp:revision>
  <dc:subject/>
  <dc:title>Properties of Real  Numbers</dc:title>
</cp:coreProperties>
</file>